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280B-23D7-4C6E-B824-F87A24979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employees are empowered to do whatever it takes to provide "instant pacification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what their normal duties are, other employees must assist if aid is requested by a fellow worker who is responding to a guest's complaint or w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5078-4D0B-47CE-8DC7-EB7F59F36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08F-F4A3-4ED5-87BE-0F9BD7CF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0DC-0789-4E09-B186-C6501C39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D9F83-F1BD-46D5-9D55-3164DA7F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8955E-E603-4F15-AC4B-828AC1CE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48BB3-70A7-49DF-8953-DA801278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8C0DFD-E22B-47AC-8816-A018D869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ADAE1-3A46-4F4C-B8EB-D49D6C92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A4B7D-9C4C-49EF-9B65-6E1433ED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F9742-D64B-4673-9F89-8D414600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CB715-6E04-4867-8724-A012DB35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6EEA0-8BDE-46C8-8448-44A534C1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716ED-6851-4E15-ACE9-9CDBB65D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F93-B6FE-433B-8100-6532F95B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BF92F-A80F-4417-AC9B-555E7D2E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F3884-17DA-4071-AE0B-EADE0C33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A3187-629E-4D35-8277-8422BB87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26C69-A33C-4CDB-8E82-412352D6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1CA42-F77F-444C-B973-0ADE9428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91D2E-BBA9-43F3-BFBD-ABC253F4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FAD67-0E17-4F7F-B9D2-C2EFE2D0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50A44-7CB7-4E02-9C78-C59D32BA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251FA-46EC-4861-973B-91588391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0741E-FA7E-41B4-9B2A-A0D4BECF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FA9-F57F-4510-8A75-26600F19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A9A81F-5616-43D4-BED8-62F2C70A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A32696-455B-4FFE-8C5C-6841FC3D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DE476D-CF03-493F-B076-B62A0842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C2FEE6-615F-4BBD-BB66-38F46056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A6A868-7100-4FA6-B136-85F8AD1B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4013A3-3F80-49CF-A45D-3CA180DE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4E25AD-193C-42D2-8676-FC2A14C1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0362FA-E5B5-4A3E-95CA-1643A569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B42304-469E-4D89-AE66-4B5053CF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6FBEE5-C847-4C5F-9FDF-6E3A7F82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ACEE-9421-4735-A78A-C2E8642C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BC0B0B-9FF9-4262-8E53-49566A9F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987D85-7BED-4138-AF44-B731A9BF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44D31F-36A7-4829-9985-86170B15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17C9-02DD-4986-85AC-B1C33C48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7982-850C-4148-96F1-FFAA5034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6C17-F361-43C8-BC43-56FCD656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6AFF-01E1-42B7-ABEE-0C835411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F062-E1D7-40A7-B8CD-6446753E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9BBA-2A78-4427-95BE-DD9A9374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531-065B-4027-BBA1-F21F0FA2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A197-D5F8-4DCC-BD5A-14CF4B01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71F0-624E-4B5C-BE5F-13C2ED7D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5646-806C-41E0-B8DB-3DA8C38C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D60C-2BE2-4647-B2AA-B6CB0BB6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C990-053F-4B36-B0DB-5D32C199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3407-43A3-4F29-9F28-D1C74AE9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39B56-8BCF-4409-802E-92F5DB9A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F579F-8139-49FC-9988-E899B796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02BB6-BA61-4330-8646-5E0565F1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DEB40-AC3A-48ED-A023-CFBE0CAD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E00-BDC4-430D-A74C-852DCE57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CAF6B-CDC5-4A77-99E9-77C98427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BD3F1-C2ED-4D7B-B1BF-6E8B4ED3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727ED-E296-4778-84E9-1664FC77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DAD13-4454-4D07-BB1F-D9B6E14E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8EAD9-54EB-42EF-8307-51BE66DF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4FC5-23DB-4C08-AE87-4F30ADE1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68ED-8E5C-4BA0-A35E-0DACB0CB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AC503-54C6-4FFA-974F-5226E786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B13D0-50A4-4210-88F7-D42A2C81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2E033-F0AA-4D0A-B954-236098B3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55B-AC22-4757-A711-9882E832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0D124-7E75-461E-B00A-1463A51E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5E928-D2AB-4793-95E3-0AFA5DDB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49B53-DC40-4D9D-9367-D451E089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E3CFC-7F88-4DA2-8F39-1EAD6F5C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586F3-E869-4108-8A1A-C396C4A0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2D7DC-80C8-41F0-B057-D4C9A2C1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B3BEF-D255-4F60-8ACC-D2704C66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4FD22-D6E6-4EBD-9AAE-E8C44A44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03F32-DBD2-4A9E-ACAE-3C203FF5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83F73-85ED-440A-ADD4-99596F60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322-3AA2-43C2-9D46-90B2A030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90473-9355-48C9-818A-9A151B1B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04BA4-FF42-459C-847A-942BD619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80324-0E8E-4DD6-99B8-A48728AD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B464B-4D18-469D-8D2B-068C3850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3C487-B489-4517-BC00-DD690E63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73521-D92E-4CCE-8B01-2D24F1A4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6C054-9338-4CD2-B9EC-0040C84A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C0AFE-86F7-4AB1-9F0A-85E90448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772D1-6240-4AB2-BB6A-08C156C6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D3355-F84C-4D3B-AC8B-9696021E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72B-D57B-4B2A-B3F4-76821099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AC398-C044-4B9C-80D7-A8F473F3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F0A40-66FC-4AB6-A58F-906A7DF7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05466-C675-49D5-977C-96254746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C52A1-D515-43E2-9FFC-5AEFB6E0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DC0DF-E528-4DBB-95FC-BBDAAB69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E806A-0139-44A8-9071-A668ADA0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8258F-EE9B-44C7-AD9E-A30E1E1B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6C020-4E23-40AA-B031-52054E66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6D03D-DC0D-461B-8764-A7C62C34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435E2-8661-4707-A1FD-817FE04A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056-0302-42F2-A766-C61EE722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E0CE1-B555-40CA-A8ED-8DBA1432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2038E-A9BC-47DE-BF5A-6C140F73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5CECF-7688-45ED-B22A-8A28D75A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60F16-6567-4B10-8570-C811D251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5358A-2BF8-475C-97C3-C5AA52FF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B36E8-1ED1-486F-A0D4-A90DF822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F7BD2-147A-4467-A2BE-A87DE773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A7C92-A41D-464A-B951-93659E53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4BF25-1DD9-4FEF-AA70-70DDC545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6159A-2E45-4174-8FFB-FA94B24A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0BD-868D-493E-A2A6-33AE6F64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D7854-CB61-448D-A79D-E40401E0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83C52-AF1C-42D5-BBD3-08505D6E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DD025-9577-42B5-BFA2-62585E18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E89AF-C59B-4FA7-92BC-A5F5C430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623DE-2071-4FB3-AC2E-4A5278DD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273E3-EACA-4B6D-BEF4-8CF291A3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DB415-269D-4508-BA15-5854532C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C7638-6251-408F-ABED-15DDB0C4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D9561-7225-4226-B282-BFCCD6C5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02118-451A-451B-9E66-88086076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8D4-6449-4AD9-ADAF-1B10472A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8479E-4C2D-4FC5-87B3-4DE85BFC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DAEF5-233C-4F29-ADB4-B066FE02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114AD-A00E-44A7-A7F5-D904DAED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2BC33-C6A0-4DDD-BCBF-5003917C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AB87B-C4B3-4717-8A24-66EEECC2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B9083-9FA1-4F34-832D-80BC8125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B65F5-6601-459A-B701-D9CD70DB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85F84-AA5B-48F5-B962-28650186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43CC9-85D1-4F74-859B-87D7BF3F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245D9-129F-4BCF-B069-18346987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92DE-B057-45E1-8870-491A503648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1002-E01D-47B2-A05D-83AA632ADA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E9AE-1D52-48AD-9E88-2720497C3B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03AD-293A-4A4E-B28C-1B8BF50D92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FDA2-0403-4024-882B-D89E39C57D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8D86-4519-4051-9D91-743A040191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890F-E9E6-442F-AF59-C50403013C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D693-1815-488F-9353-7D532FF444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0239-6336-4567-A158-2D6D695FE1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2097-9A8F-4BB7-8A73-A5C1F95BB7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3521-DB22-4461-A31A-D906724204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eorgia"/>
              </a:rPr>
              <a:t>Ritz Carlton: The Case for Servic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565" name="Picture 5" descr="rc1a.png"/>
          <p:cNvPicPr/>
          <p:nvPr/>
        </p:nvPicPr>
        <p:blipFill>
          <a:blip r:embed="rId1"/>
          <a:stretch/>
        </p:blipFill>
        <p:spPr>
          <a:xfrm>
            <a:off x="1981080" y="2743200"/>
            <a:ext cx="51120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Human Resourc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o provide superior service, Ritz-Carlton created its targeted selection process to ensure a successful match of potential employees to employment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8" name="Picture 3" descr="Ritz-Carlton-Hong-Kong-1.jpg"/>
          <p:cNvPicPr/>
          <p:nvPr/>
        </p:nvPicPr>
        <p:blipFill>
          <a:blip r:embed="rId1"/>
          <a:stretch/>
        </p:blipFill>
        <p:spPr>
          <a:xfrm>
            <a:off x="2590920" y="3962520"/>
            <a:ext cx="325728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Trai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pon being selected, new employees learn the corporate culture through a two-day orient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followed by extensive on-the-job training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nd job certification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1" name="Picture 3" descr="Dog-Training.jpg"/>
          <p:cNvPicPr/>
          <p:nvPr/>
        </p:nvPicPr>
        <p:blipFill>
          <a:blip r:embed="rId1"/>
          <a:stretch/>
        </p:blipFill>
        <p:spPr>
          <a:xfrm>
            <a:off x="3124080" y="2362320"/>
            <a:ext cx="2656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Reinforced Valu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itz-Carlton values are reinforc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continuousl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by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aily "line ups"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requent recognition for extraordinary achievemen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nd a performance appraisal based on expectations explained during the orientation, training, and certification processe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Sense of Urgenc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o ensure guests' problems are resolved quickly, workers are required to </a:t>
            </a:r>
            <a:r>
              <a:rPr b="0" i="1" lang="en-US" sz="3600" spc="-1" strike="noStrike">
                <a:solidFill>
                  <a:srgbClr val="000000"/>
                </a:solidFill>
                <a:latin typeface="Georgia"/>
              </a:rPr>
              <a:t>act at first notice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--regardless of the type of problem or customer complaint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6" name="Picture 3" descr="5611_urgent_vs_important_perma.gif"/>
          <p:cNvPicPr/>
          <p:nvPr/>
        </p:nvPicPr>
        <p:blipFill>
          <a:blip r:embed="rId1"/>
          <a:stretch/>
        </p:blipFill>
        <p:spPr>
          <a:xfrm>
            <a:off x="2895480" y="3886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Empower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598" name="Content Placeholder 3" descr="hands_empowerment_circle_mbyv.jpg"/>
          <p:cNvPicPr/>
          <p:nvPr/>
        </p:nvPicPr>
        <p:blipFill>
          <a:blip r:embed="rId1"/>
          <a:stretch/>
        </p:blipFill>
        <p:spPr>
          <a:xfrm>
            <a:off x="990720" y="1523880"/>
            <a:ext cx="71625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Data With A Purpos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aily quality production reports, derived from data submitted from each of the 720 work areas in the hotel, serve as an </a:t>
            </a: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early warning system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identifying problems that can impede progress toward meeting quality and customer-satisfaction goal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1" name="Picture 3" descr="Computer_data_180_144.jpg"/>
          <p:cNvPicPr/>
          <p:nvPr/>
        </p:nvPicPr>
        <p:blipFill>
          <a:blip r:embed="rId1"/>
          <a:stretch/>
        </p:blipFill>
        <p:spPr>
          <a:xfrm>
            <a:off x="380880" y="4343400"/>
            <a:ext cx="838224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Data With A Purpos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upled with quarterly summaries of guest and meeting-planner reactions, the combined data are compared with predetermined customer expectations to improve servic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4" name="Picture 3" descr="Computer_data_180_144.jpg"/>
          <p:cNvPicPr/>
          <p:nvPr/>
        </p:nvPicPr>
        <p:blipFill>
          <a:blip r:embed="rId1"/>
          <a:stretch/>
        </p:blipFill>
        <p:spPr>
          <a:xfrm>
            <a:off x="380880" y="4343400"/>
            <a:ext cx="838224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Data With A Purpos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mong the data gathered and tracked over time ar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nual guest-room preventive-maintenance cyc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centage of check-ins with no queu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me spent to achieve industry-best clean-room appear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time to service an occupied guest roo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7" name="Picture 3" descr="Computer_data_180_144.jpg"/>
          <p:cNvPicPr/>
          <p:nvPr/>
        </p:nvPicPr>
        <p:blipFill>
          <a:blip r:embed="rId1"/>
          <a:stretch/>
        </p:blipFill>
        <p:spPr>
          <a:xfrm>
            <a:off x="380880" y="4572000"/>
            <a:ext cx="838224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Resul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2286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According to surveys conducted for Ritz-Carlton by an independent research firm, </a:t>
            </a: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92 to 97 percent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of guests leave with a </a:t>
            </a: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very positive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impression of the hotel brand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3" descr="daimler-financial-to-post-positive-results-for-q4-13140_1.jpg"/>
          <p:cNvPicPr/>
          <p:nvPr/>
        </p:nvPicPr>
        <p:blipFill>
          <a:blip r:embed="rId1"/>
          <a:stretch/>
        </p:blipFill>
        <p:spPr>
          <a:xfrm>
            <a:off x="1066680" y="457200"/>
            <a:ext cx="1673280" cy="12556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daimler-financial-to-post-positive-results-for-q4-13140_1.jpg"/>
          <p:cNvPicPr/>
          <p:nvPr/>
        </p:nvPicPr>
        <p:blipFill>
          <a:blip r:embed="rId2"/>
          <a:stretch/>
        </p:blipFill>
        <p:spPr>
          <a:xfrm>
            <a:off x="5943600" y="609480"/>
            <a:ext cx="16732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Quality Commit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 a result of its quality program, Ritz-Carlton received 121 quality awards from the travel industry in 2010 alone, including: "Best Hotel Chain in the United States," by Zagat Travel Survey; "Index Award of Excellence," by Hotel and Travel Index; "Alred Award" for Best Hotel Chain, by Corporate Travel; and "Top Hotel Chain in Ability to Service Meetings," by Successful Meeting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Ritz Carlton Case Stud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Quality management begins with the president and the other 13 senior executives who make up th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orporate steering committee and th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senior quality-management team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Purpose Driven Resul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 aim of these and other customer-focused measures is not simply to meet the expectations of guests but to provide them with a memorable visit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3" descr="results.jpg"/>
          <p:cNvPicPr/>
          <p:nvPr/>
        </p:nvPicPr>
        <p:blipFill>
          <a:blip r:embed="rId1"/>
          <a:stretch/>
        </p:blipFill>
        <p:spPr>
          <a:xfrm>
            <a:off x="1143000" y="3809880"/>
            <a:ext cx="66294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orporate Manage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meet weekly to review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1. product- and service-quality measur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2. guest satisfa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3. market growth and developmen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4. organizational indicators, profits, and competitive statu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orporate Manage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Approximately one-fourth of each executive's time is devoted to quality-related matt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2" name="Picture 3" descr="rc2.jpg"/>
          <p:cNvPicPr/>
          <p:nvPr/>
        </p:nvPicPr>
        <p:blipFill>
          <a:blip r:embed="rId1"/>
          <a:stretch/>
        </p:blipFill>
        <p:spPr>
          <a:xfrm>
            <a:off x="3352680" y="1600200"/>
            <a:ext cx="24829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GOLD STANDARD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152280" y="403848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ey product and service requirements of the travel consumer have been translated into Ritz-Carlton Gold Standards, which include a credo, motto, three steps of service, and 20 "Ritz-Carlton Basics"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6" name="Picture 4" descr="rc3.jpg"/>
          <p:cNvPicPr/>
          <p:nvPr/>
        </p:nvPicPr>
        <p:blipFill>
          <a:blip r:embed="rId1"/>
          <a:stretch/>
        </p:blipFill>
        <p:spPr>
          <a:xfrm>
            <a:off x="228600" y="1522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Ritz-Carlton1-Lt.jpg"/>
          <p:cNvPicPr/>
          <p:nvPr/>
        </p:nvPicPr>
        <p:blipFill>
          <a:blip r:embed="rId2"/>
          <a:stretch/>
        </p:blipFill>
        <p:spPr>
          <a:xfrm>
            <a:off x="5638680" y="152280"/>
            <a:ext cx="32958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The Cred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Ritz-Carlton Hotel is a place where the genuine care and comfort of our guests is our highest miss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pledge to provide the finest personal service and facilities for our guests who will always enjoy a warm, relaxed, yet refined ambienc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Ritz-Carlton experience enlivens the senses, instills well-being, and fulfills even the unexpressed wishes and needs of our gues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The Mott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t The Ritz-Carlton Hotel Compan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"We are Ladies and Gentlemen serving Ladies and Gentlemen."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s motto exemplifies the anticipatory service provided by all staff memb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The Three Service Step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 warm and sincere greeting. Use the guest's name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nticipation and fulfillment of each guest's need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Fond farewell. Give a warm good-bye and use the guest's nam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Standar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ch employee is expected to understand and adhere to these standards, which describe processes for solving problems guests including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detailed grooming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ousekeeping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safety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nd efficiency standard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3:02:28Z</dcterms:created>
  <dc:creator>robert</dc:creator>
  <dc:description/>
  <dc:language>en-US</dc:language>
  <cp:lastModifiedBy>robert</cp:lastModifiedBy>
  <dcterms:modified xsi:type="dcterms:W3CDTF">2011-04-02T04:47:00Z</dcterms:modified>
  <cp:revision>12</cp:revision>
  <dc:subject/>
  <dc:title>Ritz Carlton Case Study</dc:title>
</cp:coreProperties>
</file>